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E4E33-1478-4307-ACD4-4E3AB1F25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216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CE1D7-A5AA-4D2F-9CAA-CB0BFEE81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216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216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17356-96B4-4C5B-B8D2-89692A082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066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066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216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216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216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9318F-3652-4B55-88C6-7D7200BF1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D1C59-2F83-4557-90D9-7D987E200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98BDD-98BE-43DC-BDA5-A14640E64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BFE92-6BC4-4DEB-B519-7495558DE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ACC09-EEB6-46CF-9C2D-E9F18A3CA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9613F-B814-4DE7-98C4-A79FC512D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216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A5321-62DB-4DC5-922E-24A971181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216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367D6-B12C-4096-B3F2-FBCE36BA1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216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AE986-A605-4186-9B12-D28319167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DE0B1-B21B-4C80-8210-A34534A378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be0e3"/>
                </a:solidFill>
                <a:latin typeface="Arial Narrow"/>
              </a:rPr>
              <a:t>The Apostles’ Cre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I believe in God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the Father Almighty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creator of heaven and earth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324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 Narrow"/>
              </a:rPr>
              <a:t>1 of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I believe in Jesus Christ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God’s only Son, our Lord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who was conceive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by the Holy Spirit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born of the Virgin Mary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6324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 Narrow"/>
              </a:rPr>
              <a:t>2 of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suffered under Pontius Pilate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was crucified, died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and was buried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he descended to the dea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6324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 Narrow"/>
              </a:rPr>
              <a:t>3 of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On the third day he rose again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he ascended into heaven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he is seated at the right han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of the Father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and he will come to judg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the living and the dea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6324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 Narrow"/>
              </a:rPr>
              <a:t>4 of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I believe in the Holy Spirit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the holy catholic Church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the communion of saints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the forgiveness of sins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the resurrection of the body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and the life everlasting. Ame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632448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 Narrow"/>
              </a:rPr>
              <a:t>5 of 5</a:t>
            </a:r>
            <a:r>
              <a:rPr b="0" lang="en-US" sz="2400" spc="-1" strike="noStrike">
                <a:solidFill>
                  <a:srgbClr val="bbe0e3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bbe0e3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bbe0e3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bbe0e3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bbe0e3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bbe0e3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bbe0e3"/>
                </a:solidFill>
                <a:latin typeface="Arial Narrow"/>
              </a:rPr>
              <a:t>	</a:t>
            </a:r>
            <a:r>
              <a:rPr b="0" lang="en-US" sz="1800" spc="-1" strike="noStrike">
                <a:solidFill>
                  <a:srgbClr val="bbe0e3"/>
                </a:solidFill>
                <a:latin typeface="Arial Narrow"/>
              </a:rPr>
              <a:t>ELLC 198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15T01:50:20Z</dcterms:created>
  <dc:creator>Anon Anon</dc:creator>
  <dc:description/>
  <dc:language>en-US</dc:language>
  <cp:lastModifiedBy>Anon Anon</cp:lastModifiedBy>
  <dcterms:modified xsi:type="dcterms:W3CDTF">2005-08-16T04:23:30Z</dcterms:modified>
  <cp:revision>10</cp:revision>
  <dc:subject/>
  <dc:title>The Apostles’ Creed</dc:title>
</cp:coreProperties>
</file>